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C350-A0C6-4FCC-8DED-1D18B2AC1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BE35-68CD-4122-AA29-E1E9B127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038797-BA26-4BE2-B967-88BE4B03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7728D9-E6FB-4B79-AA59-11316910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270BB2-6AF3-4B70-9AEC-B6E696FE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28C564-5E3B-469D-BBDE-9276A542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6F04A7-29BB-416E-8149-EF06CF16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F8900-00C3-4552-9CCA-39F8BF19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B9B448-F75D-448C-BA52-65A8F90D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939431-FC20-4644-BB8E-B131D8500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4D41FE-B42C-4D65-BD3C-A100A8697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D418E7-8EC4-4E9F-865E-5CBC41B4F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18EA-F6EF-4FCA-8AEB-C52D1381F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A23A50-882A-40F4-905A-D1696779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3293C1-97D4-49CD-A856-64DFB0FF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C45A8B-077B-4E0E-967E-2B583203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7F5591-14A7-4C52-86FF-3D9A11D3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3A6110-79CF-4E21-B784-689E6045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B44BC1-F7EE-4C78-AA4E-A9EF8530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DEFC14-0454-46F7-BC54-378FA89D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0A4CA4-1FF8-497A-9CCE-FB8ACFC1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7C42DE-0B6B-42A7-A7C3-BDFDFC2D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7862B8-CFB2-447D-8957-617F7CEA4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A921-F8B8-416E-8BBF-2D66F5177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4E112D-E63A-407C-8290-224433DA7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409AD-3A25-42E9-9140-D4DEB7DAD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497F69-9BF1-4DDD-B13F-DA488521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D599BA-F3F7-4472-A889-0DD23B8D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C09A8-BDB5-4801-993F-B7462030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C93A8-3647-4192-9FD4-025ABAE9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93380-F13D-4E24-BE05-12B344FB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48115-AAEB-4D9B-8267-F5FF685D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631844-317A-41B9-B04A-B2BECE29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C68F9-D7A2-41B9-92AB-6600DA66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13BBF-F934-41A6-9A17-F0E131662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4D901-5FA6-4EBC-943A-CC072058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AFF1A-28F5-47F2-9D37-63A519801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18E40-04B7-4AB6-94F8-4ADEDA385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1DC0BF-BC41-4D3B-8C0E-A492B4A7D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333E83-69AC-434F-8B99-C55FCA13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AFD94A-CF8C-4D86-BB39-C5A290FC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5015F9-6175-4B9D-BFC1-997F0798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87AD7F-C664-412E-9A7E-E824AB7C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BF0EF8-B668-4FDD-857C-83B204BC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EECF20-6C19-412F-A836-FA0A4340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F8C38-DF9F-4ECB-BAD9-F936577B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F85B0E-A1D0-4B0C-9442-A8992DD7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257410-788B-4726-AE95-DF671B05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1EBD79-AE32-41A5-9016-8EC7526F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8616EB-CE8E-4D02-A76D-C5EF94640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8A8846-392A-41D8-8E95-A23B2BE3C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060CE4-FB06-47AD-9E51-DA49A25C2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9C5796-4B45-4FFB-9A22-A9ABBBC0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F317AE-5A34-4BA8-BDF6-C15B143C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D01AFE-34A0-4B8C-BBE6-8BB4061A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CF9F75-D61D-48CC-8D98-3C364157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82C6-202F-49B3-A531-E500F38E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F04ED5-9999-4C3A-9D3A-4104C01D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07D8EC-9A43-4A8E-B755-F0D98B97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8845AD-3847-49B2-8524-236E3AC1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7CDE10-93ED-40ED-9D63-98148DDB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A1B9A5-93D6-4C60-AB0E-F5FE2783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7D78CF-E17F-4AEE-B00E-93D9E80E8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109748-76B2-46B1-8BDA-EBCA2F4BF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B07D68-9C7C-43C3-8E08-2E55A5845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2DFECB-63F7-4218-9DD3-B1BA8BC0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1A5EB0-A24F-4B01-84B2-95F6C1E0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2137-33BD-4EF8-B942-DC9C8886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8E9CE9-8351-4A42-9E24-A68C22A8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D9AAC9-6EC3-414F-BAD8-252356F8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8FEEA8-FE06-4E07-A8C4-A37F2F3A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937E5A-86A3-4835-B09F-D17B587F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D208AB-8769-4967-8D7A-6670448A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490539-C98E-41FA-8399-B9EE8D62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87A275-CBB7-4A92-8D5D-DB431FDC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A6E349-C25A-40AB-8494-DECA6711F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E9A167-F144-4218-8E4A-5FD43BF4D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82C256-DCA5-4F26-90AD-757459FC4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F707-EA71-4F60-B5A5-BC0070A3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1C020E-5457-452A-8A5F-CE65B630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7EEF09-14E8-4A9D-804B-0DDAFD87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C5C040-728A-4EFF-80FF-47AA01C3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0769F5-0DA1-49E6-875F-E358D93D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6355DB-90D4-404D-8BE3-CFB82731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B6415E-53A7-47F2-9566-ADF14AB0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8F1D20-A147-4FC9-A52F-0DCA58E2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9DCA03-F9F1-46B8-B15A-A8BC05AC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647C95-BDDC-4EA8-AA2A-98A6BA95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3E5578-B3AF-4CB8-9039-504CAF23A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918D7-54CD-470F-90CD-99D519A9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46EA44-8838-41A3-B9E4-ABBC0C79E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C4CB0B-6742-4DE5-A8DE-0310A8A54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0FA2BC-4DFF-48AB-B215-4C0CD49E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162491-6B20-40F6-9D88-375EB695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0B2410-8860-4B12-9355-B30BC49C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4DF29D-C685-43D8-B443-ED708B33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56AE62-251A-4DD1-ABAA-BAD27334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A05309-332B-484F-A545-6758BFD4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4F9B2F-65A8-43B1-9CD3-E229222B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F2C8DB-D484-414B-B2BB-04FD4A3E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C419-ED18-4746-8FE6-C80CCA2B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23AA1A-D74D-48AF-A925-E348A0D3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4C3D67-69D8-48A7-86D5-013DABC3E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D71CE1-011F-4C56-9277-7510757DA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CEFAB0-07CE-4BD5-8EBE-7CE076DD3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320CED-C108-41BB-B686-95687580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F6A756-DADB-4DA7-AFBA-19B6FD53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B92013-2A5D-4001-A3FC-8A1ACD3F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1A87FF-091E-4935-B72D-76695BA7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B58D32-67C4-4102-9B13-F161B464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F9188D-5AB9-408F-928C-7C1BD689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0DDC-5844-4B94-A73A-D7D9092F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8052-A12F-442E-95B6-47915A9A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E96F4E-29C9-4640-BF46-AF5E3510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015876-869A-477C-92A9-C18FE294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62EFAC-046A-4143-B15A-6F5FDF23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A66748-4BD2-4977-8494-52879ED85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09745D-D91E-4FF3-A8F1-456CB85FB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3E05A5-5D80-40D4-BB16-3A484A21C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125EE5-B866-4EDC-B12C-BDB53CD0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E5CA07-02A1-4D3F-A212-520A70C0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3C421A-3BEC-48BC-B5FA-ACE48F69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C65993-1444-44A2-A6D9-B0E04293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73E68-86B6-47BD-B6F0-5BAC602E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21A6AF-8E80-4568-88FF-1977EB86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4E8BB2-BDD3-4170-AC53-D6139EB2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30BE09-83F7-4737-BB7E-D439B9FE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967D56-A9B9-4058-BEDB-47C2BE53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9B0375-12F6-48CB-AAE2-686F0777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6A97C5-B5FC-488E-AD56-0E2D5830C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D37125-511D-44CF-A6A8-8825EF54C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7D6CC7-E390-4347-9DBD-B3B7063BB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77E56A-2D5D-4AF9-8BCB-BAD1A481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0D1022-3EA0-4F9D-9B12-B634D096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8B49F-D493-4822-A563-832CDB59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C4CF69-27D4-4456-8E17-E75A8F4C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2FE692-6BCC-4236-8A66-6751DD1E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C2CC8B-98B9-4E11-8417-0BE2CD88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8C1090-B7BC-4A03-8776-F8A73E49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B62214-678D-4333-A53F-983D2679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A5BBD5-3BEC-4F2F-8BAC-64BDA38D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E83E99-3D37-4F31-A12C-B8CAF1F2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B53EE2-0E5C-40FD-8611-4B525B7B3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F349C3-5253-4D2A-B8C6-0A1CB8E45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16F98F-AD4B-4D2C-9B73-C91411399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8674D-BC56-4DB6-964B-971CD5702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B613BC-4998-40BF-81FB-5624E042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A7AB06-90C2-4144-B038-61621599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15B02D-0A82-435E-BF18-FDC3D79C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B16E28-899A-44F0-BE15-F91DF0E5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582161-370B-4A39-A7E9-4385A714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29FDFB-7A36-4830-8A30-20A57588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A9543C-F7D2-48E9-B207-2EDAD4F9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3A6C5B-6A5F-4E16-B359-6B00BCFE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01F759-C9D7-4631-8B24-FE4BF87D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34FCAF-5102-4040-BEBE-3A947EA23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9904-E443-417C-A068-9E490E0B1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CD60F4-9D3B-4E07-A1F0-C3A03C9AE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5EF320-B328-4A5F-B122-D88A6BF1F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E4D5C3-D409-4139-B3EB-2B670AA1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5A95D1-B1A0-4BAF-8C09-E821990B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1EE389-8105-4CB2-A725-31B41DC1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D3BE8E-C901-4379-B7F7-CF8F854B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CCDCCC-69A4-42D1-B2E5-94E84C07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D40B39-A1D3-47D8-9E25-50CFE27A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56BC4C-153B-433B-8D60-90EAC6A7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8EA0B1-A35E-4687-BD1E-4930C2D7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F4A96-44C6-444D-9E06-139CC3EB6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D993F8-4F9E-49B6-A507-E64E2C0F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37CCB6-7B19-4149-B4FC-94B6F56BA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B09050-81A2-4E39-B44F-CB57D6EFE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D7526-E6EE-423D-B3AD-1BD8AA80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3067D-3FCE-41F5-A7C8-D02D8506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D1AB5-7A6A-4154-B94D-FBDE4287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D6E65-EB9D-40DF-82D7-30853194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787D-1373-4787-8DF0-E6FFB966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47145-EDFD-4FD4-B587-C5118CD6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5FFDE-3F6B-4BF6-8C8E-8BEFB7D0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B4882-88D2-407F-9416-DC1DCCC4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186D5-1722-4C93-B29E-572E80DF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F3A23-9F87-4516-9603-002F389E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3299B-A8E7-47D7-9316-E7CF01852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2755F-3C85-44A6-A2F8-2F04E9624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AE830-A80D-42D3-A9CE-40B231A89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2130E-F120-4A67-BF6A-DEDBDA36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AB7D2-5F80-4B49-82F8-75DC1231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07B8-70FF-43D8-9FDD-4030878B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C1F0F-0F4D-47D7-A928-0293CBC4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04052-45B3-4603-870B-6CF3A5CD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F33AA-D9D9-4627-9956-FB7EADB1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03283-BFE8-48AD-886B-C3403D31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87BA4-E8E5-4B97-9E9C-2845783E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22C65-FF7C-4D02-B43D-DB4A7D03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4E247-B3F7-4A4F-9C5A-FD592C2B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C4513-03A9-453F-B49B-A948C7E6F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160BF-8920-4F5E-B299-8B1F18A7E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06E85-D1D9-4B97-90CF-DBB69776D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7A65-C9D4-422B-8948-E4EA25DB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F690F-D77E-4602-BA5E-6D3EE38E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33DDB-B697-4CF1-843F-F5FF106F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60253-CD60-4A87-A026-CC082EC9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87962-F68B-4FF8-9A62-83C0D8FB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0139B-F40C-481D-A6C0-D9C19065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B6F96-73F4-4696-9984-56D60AD5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D2D8F-733A-4D7A-9A04-BCBD6FF2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A3056-3F94-490B-87E9-9CB827EB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537CF-AAB1-43D0-B7BB-C86D77D4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A8B04-BA45-4B1A-90A1-F918C9FF0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5723-34F8-4260-A07A-CDDD3920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C67E9-63C0-4F15-B9B2-05D42519B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A8DD2-4A2B-4FA1-AF9D-AF6FA74A8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E54BF-1DC9-4B9B-AA65-1A492326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BC1E3-11E9-4DCE-96B0-396FCA80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03F5F-98D0-4468-8FF0-8A54AB32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CCEB1-6580-418F-BC52-87BE1721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68703-479B-46F3-98A9-741452BD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F48A8-0916-4AE9-946D-B45F374D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9B869-FD4B-445D-BC57-EE32300B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68BC4-3424-4FC9-AA1F-D2E8BF1B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42A5-6099-4934-8CEA-A2E507E3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DF969-659B-413B-9FB5-F9B1E5C3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6E33E-BE33-4755-A51E-8A3EAE521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7077A-098A-411B-AE5B-E197ADDDC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8EE6E-D777-4127-9989-55C0D69E5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4EABB-4998-4899-872E-5EFB41C8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1F7B6-D2B5-4820-8907-78AC7E7D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0AE19-009F-46DD-9AFE-0D65C001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C9813-EEC1-4ECE-B157-4F876824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7ACA1-A74D-4CFE-97F7-40BE2333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37A5E-C15F-4B77-BC3B-600B3D9F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0E1B-8998-4209-89D8-6D393388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1BEE5-A7D6-4D0C-B286-46ACB15D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6BAE5-4C39-4C45-8536-66DF0A93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74591-049E-48B3-9A47-71174114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46CF6-1036-4295-9324-BFC4AE662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7510E-5626-45F1-8E3B-67F67ADA1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9B69E-7DDD-468E-A299-3835D6D52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F32A4-607E-4DFE-A1CC-A0BEEA75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E64E6-2473-4864-9A18-CF78618F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19C39-9ABF-44AF-A925-01F3BA33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31E84-A4DD-4567-9BE4-8C42134D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4DEB-C5F6-4E38-BA3E-AC77DF56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8ACFB-9F89-4786-9FC2-B20AFFC9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E6A7E-E3A9-4744-97F7-CA7FF45B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0A1E5-D883-4CF9-853B-72530424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6A4C4-9DE6-44FB-8D09-9860FDF7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8E7AF-86AB-4AF4-A757-4DC52C07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E5760-765C-41AC-98C3-9E07BD326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F756D-834B-451B-8089-AEB336E97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F710D5-E0AC-44DA-9516-C95E6C8DF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8AB4B7-F6E2-409C-AF29-792E2C34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7E3B2C-FC67-4F42-86D3-CD80B1E6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B318-3CD9-47D0-AB01-85388E90F9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ACFC-7FC7-49A7-9518-E8E8413448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DC32-E318-4A37-9AA5-341ECFC703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0335-DAFD-4FF4-930D-0B767AB2A5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5736-8343-4296-8828-0EA6B7B689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8FE4-AF9E-47FC-B7B2-4B0D5A54C8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AE5B-2184-424C-8928-0A8FCB5951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8A8C-A014-4407-A59A-14236BF7C0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B008-5667-4CB6-8EFF-376E6A337B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E8D5-6961-424C-B716-8B7024F67A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7785-9FA4-400B-B7FA-FA23C90EC5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030F-D738-4F46-9A3C-D3BBD6A786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448B-7B79-47CA-A17D-60EB04E38C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F30C-BDE4-4A70-9B90-82E44C381B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98E8-5337-49F9-A317-660E9276BF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D02D-EE6A-448B-9842-ACEA6A83F5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4A2B-5C65-4F93-B582-3D691E482C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B339-EA51-4FF7-A3BE-F9C0588875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9DD3-4428-4725-9D9A-99AA859C50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B49A-08B1-4B5A-A84B-2064BA5079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E603-81E5-4193-92F6-8E0972B94F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4F8E-5D59-434E-ADC8-0D55F01933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061C-E8C7-4C90-A8A0-5F0B206B9B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4901-99C6-4C47-B8A0-3EA77FD347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52B5-8F15-4192-A442-BE0C4412AC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C4C7-14CA-4B3A-87C5-670580D7D1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FA41-8515-4CD2-9B4F-8CA7D3E2D8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4BD4-77A8-4BA9-A42D-39D827415A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94F2-B8B6-4D83-B217-A114976399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EF99-C268-4D5E-BB24-41ED0CAC86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0ED8-95B6-490F-9133-526C17C07B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8F1E-08BD-4F01-8EEB-42E5C507C7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652B-22F5-4BB7-AEB5-A507DD91D9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7B56-532B-404C-ADBB-E64E414B4C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AF4F-417B-43EF-B011-C5B268A34E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2BF3-3960-4C08-83E5-2AD0C9BA57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0D40-28A1-4A52-8A4A-13828BB6E1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ED76-23D0-4617-9ABD-28CA0BA5F1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DF9B-838D-4921-AC4E-E9B2F19E8B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822E-DC61-4F13-BCC7-EED3F9214B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643040" y="2595600"/>
            <a:ext cx="58579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3" name="图片 69633" descr=""/>
          <p:cNvPicPr/>
          <p:nvPr/>
        </p:nvPicPr>
        <p:blipFill>
          <a:blip r:embed="rId1"/>
          <a:stretch/>
        </p:blipFill>
        <p:spPr>
          <a:xfrm>
            <a:off x="290520" y="955800"/>
            <a:ext cx="8562960" cy="535284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2"/>
          <a:stretch/>
        </p:blipFill>
        <p:spPr>
          <a:xfrm>
            <a:off x="1258920" y="3298680"/>
            <a:ext cx="4537080" cy="79236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3"/>
          <a:stretch/>
        </p:blipFill>
        <p:spPr>
          <a:xfrm>
            <a:off x="971640" y="4307040"/>
            <a:ext cx="4537080" cy="79200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4"/>
          <a:stretch/>
        </p:blipFill>
        <p:spPr>
          <a:xfrm>
            <a:off x="900000" y="5214960"/>
            <a:ext cx="4537080" cy="5047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5"/>
          <a:stretch/>
        </p:blipFill>
        <p:spPr>
          <a:xfrm>
            <a:off x="900000" y="5805360"/>
            <a:ext cx="453708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14280" y="768240"/>
            <a:ext cx="8515440" cy="58294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2195640" y="29242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6862680" y="28814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2987640" y="5805360"/>
            <a:ext cx="14400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59410" descr=""/>
          <p:cNvPicPr/>
          <p:nvPr/>
        </p:nvPicPr>
        <p:blipFill>
          <a:blip r:embed="rId1"/>
          <a:stretch/>
        </p:blipFill>
        <p:spPr>
          <a:xfrm>
            <a:off x="276120" y="1155600"/>
            <a:ext cx="8591760" cy="50101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2"/>
          <a:stretch/>
        </p:blipFill>
        <p:spPr>
          <a:xfrm>
            <a:off x="1835280" y="3559320"/>
            <a:ext cx="433080" cy="3855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3"/>
          <a:stretch/>
        </p:blipFill>
        <p:spPr>
          <a:xfrm>
            <a:off x="1820880" y="4033800"/>
            <a:ext cx="433440" cy="3859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4"/>
          <a:stretch/>
        </p:blipFill>
        <p:spPr>
          <a:xfrm>
            <a:off x="3103560" y="3573360"/>
            <a:ext cx="433440" cy="3859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5"/>
          <a:stretch/>
        </p:blipFill>
        <p:spPr>
          <a:xfrm>
            <a:off x="3089160" y="4048200"/>
            <a:ext cx="433440" cy="3855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6"/>
          <a:stretch/>
        </p:blipFill>
        <p:spPr>
          <a:xfrm>
            <a:off x="4370400" y="3573360"/>
            <a:ext cx="433440" cy="3859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7"/>
          <a:stretch/>
        </p:blipFill>
        <p:spPr>
          <a:xfrm>
            <a:off x="4356000" y="4048200"/>
            <a:ext cx="433440" cy="3855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8"/>
          <a:stretch/>
        </p:blipFill>
        <p:spPr>
          <a:xfrm>
            <a:off x="5665680" y="3544920"/>
            <a:ext cx="433440" cy="3855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9"/>
          <a:stretch/>
        </p:blipFill>
        <p:spPr>
          <a:xfrm>
            <a:off x="5651640" y="4019400"/>
            <a:ext cx="433080" cy="3859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0"/>
          <a:stretch/>
        </p:blipFill>
        <p:spPr>
          <a:xfrm>
            <a:off x="6934320" y="3559320"/>
            <a:ext cx="433440" cy="3855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1"/>
          <a:stretch/>
        </p:blipFill>
        <p:spPr>
          <a:xfrm>
            <a:off x="6919920" y="4033800"/>
            <a:ext cx="433440" cy="3859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2"/>
          <a:stretch/>
        </p:blipFill>
        <p:spPr>
          <a:xfrm>
            <a:off x="8201160" y="3559320"/>
            <a:ext cx="433080" cy="3855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3"/>
          <a:stretch/>
        </p:blipFill>
        <p:spPr>
          <a:xfrm>
            <a:off x="8186760" y="4033800"/>
            <a:ext cx="433440" cy="3859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4"/>
          <a:stretch/>
        </p:blipFill>
        <p:spPr>
          <a:xfrm>
            <a:off x="7885080" y="5516640"/>
            <a:ext cx="57456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8373" descr=""/>
          <p:cNvPicPr/>
          <p:nvPr/>
        </p:nvPicPr>
        <p:blipFill>
          <a:blip r:embed="rId1"/>
          <a:stretch/>
        </p:blipFill>
        <p:spPr>
          <a:xfrm>
            <a:off x="504720" y="852480"/>
            <a:ext cx="8134560" cy="51530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7726320" y="19018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3"/>
          <a:stretch/>
        </p:blipFill>
        <p:spPr>
          <a:xfrm>
            <a:off x="7740720" y="3716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4"/>
          <a:stretch/>
        </p:blipFill>
        <p:spPr>
          <a:xfrm>
            <a:off x="7667640" y="558972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7352" descr=""/>
          <p:cNvPicPr/>
          <p:nvPr/>
        </p:nvPicPr>
        <p:blipFill>
          <a:blip r:embed="rId1"/>
          <a:stretch/>
        </p:blipFill>
        <p:spPr>
          <a:xfrm>
            <a:off x="600120" y="1062000"/>
            <a:ext cx="7943760" cy="473400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"/>
          <a:stretch/>
        </p:blipFill>
        <p:spPr>
          <a:xfrm>
            <a:off x="1258920" y="2852640"/>
            <a:ext cx="2952720" cy="9367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1258920" y="3860640"/>
            <a:ext cx="2952720" cy="9367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4"/>
          <a:stretch/>
        </p:blipFill>
        <p:spPr>
          <a:xfrm>
            <a:off x="1187280" y="4869000"/>
            <a:ext cx="2953080" cy="9363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5"/>
          <a:stretch/>
        </p:blipFill>
        <p:spPr>
          <a:xfrm>
            <a:off x="5075280" y="2809800"/>
            <a:ext cx="2952720" cy="9367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6"/>
          <a:stretch/>
        </p:blipFill>
        <p:spPr>
          <a:xfrm>
            <a:off x="5003640" y="3817800"/>
            <a:ext cx="29530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6324" descr=""/>
          <p:cNvPicPr/>
          <p:nvPr/>
        </p:nvPicPr>
        <p:blipFill>
          <a:blip r:embed="rId1"/>
          <a:stretch/>
        </p:blipFill>
        <p:spPr>
          <a:xfrm>
            <a:off x="490680" y="1857240"/>
            <a:ext cx="8162640" cy="31435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2"/>
          <a:stretch/>
        </p:blipFill>
        <p:spPr>
          <a:xfrm>
            <a:off x="971640" y="2981160"/>
            <a:ext cx="3313080" cy="80820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"/>
          <a:stretch/>
        </p:blipFill>
        <p:spPr>
          <a:xfrm>
            <a:off x="900000" y="3933720"/>
            <a:ext cx="2232000" cy="43200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4"/>
          <a:stretch/>
        </p:blipFill>
        <p:spPr>
          <a:xfrm>
            <a:off x="826920" y="4479840"/>
            <a:ext cx="2376720" cy="43200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5"/>
          <a:stretch/>
        </p:blipFill>
        <p:spPr>
          <a:xfrm>
            <a:off x="4645080" y="2967120"/>
            <a:ext cx="4030560" cy="8078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6"/>
          <a:stretch/>
        </p:blipFill>
        <p:spPr>
          <a:xfrm>
            <a:off x="4573440" y="3919680"/>
            <a:ext cx="2232000" cy="4316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7"/>
          <a:stretch/>
        </p:blipFill>
        <p:spPr>
          <a:xfrm>
            <a:off x="4500720" y="4465800"/>
            <a:ext cx="237636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55300" descr=""/>
          <p:cNvPicPr/>
          <p:nvPr/>
        </p:nvPicPr>
        <p:blipFill>
          <a:blip r:embed="rId1"/>
          <a:stretch/>
        </p:blipFill>
        <p:spPr>
          <a:xfrm>
            <a:off x="314280" y="692280"/>
            <a:ext cx="8515440" cy="59054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2"/>
          <a:stretch/>
        </p:blipFill>
        <p:spPr>
          <a:xfrm>
            <a:off x="1332000" y="3573360"/>
            <a:ext cx="3095640" cy="8636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3"/>
          <a:stretch/>
        </p:blipFill>
        <p:spPr>
          <a:xfrm>
            <a:off x="971640" y="4581360"/>
            <a:ext cx="3095640" cy="8636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4"/>
          <a:stretch/>
        </p:blipFill>
        <p:spPr>
          <a:xfrm>
            <a:off x="900000" y="5589720"/>
            <a:ext cx="3743280" cy="44748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5"/>
          <a:stretch/>
        </p:blipFill>
        <p:spPr>
          <a:xfrm>
            <a:off x="755640" y="6135840"/>
            <a:ext cx="5040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54276" descr=""/>
          <p:cNvPicPr/>
          <p:nvPr/>
        </p:nvPicPr>
        <p:blipFill>
          <a:blip r:embed="rId1"/>
          <a:stretch/>
        </p:blipFill>
        <p:spPr>
          <a:xfrm>
            <a:off x="318960" y="995400"/>
            <a:ext cx="8506080" cy="486720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2"/>
          <a:stretch/>
        </p:blipFill>
        <p:spPr>
          <a:xfrm>
            <a:off x="1042920" y="2852640"/>
            <a:ext cx="3024360" cy="79236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3"/>
          <a:stretch/>
        </p:blipFill>
        <p:spPr>
          <a:xfrm>
            <a:off x="971640" y="3875040"/>
            <a:ext cx="3024000" cy="7923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4"/>
          <a:stretch/>
        </p:blipFill>
        <p:spPr>
          <a:xfrm>
            <a:off x="826920" y="4811760"/>
            <a:ext cx="2592720" cy="44748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5"/>
          <a:stretch/>
        </p:blipFill>
        <p:spPr>
          <a:xfrm>
            <a:off x="755640" y="5373720"/>
            <a:ext cx="63374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图片 52231" descr=""/>
          <p:cNvPicPr/>
          <p:nvPr/>
        </p:nvPicPr>
        <p:blipFill>
          <a:blip r:embed="rId1"/>
          <a:stretch/>
        </p:blipFill>
        <p:spPr>
          <a:xfrm>
            <a:off x="309600" y="647640"/>
            <a:ext cx="8524800" cy="587700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2"/>
          <a:stretch/>
        </p:blipFill>
        <p:spPr>
          <a:xfrm>
            <a:off x="1332000" y="2997360"/>
            <a:ext cx="3600360" cy="8632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3"/>
          <a:stretch/>
        </p:blipFill>
        <p:spPr>
          <a:xfrm>
            <a:off x="1116000" y="3976560"/>
            <a:ext cx="5256360" cy="86364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4"/>
          <a:stretch/>
        </p:blipFill>
        <p:spPr>
          <a:xfrm>
            <a:off x="826920" y="5013360"/>
            <a:ext cx="3168720" cy="44748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5"/>
          <a:stretch/>
        </p:blipFill>
        <p:spPr>
          <a:xfrm>
            <a:off x="826920" y="5545080"/>
            <a:ext cx="3168720" cy="44784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6"/>
          <a:stretch/>
        </p:blipFill>
        <p:spPr>
          <a:xfrm>
            <a:off x="755640" y="6107040"/>
            <a:ext cx="4824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0:41:07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